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19D-7E1A-4FB4-8598-9FA1F5B6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58D-4943-47BA-B31B-3D6E4BC5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48D9-48C4-4233-A7C3-DF7F9F22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9659-DAD2-4B63-A02D-DF5F2D71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5A84-131B-4E62-BD7C-C76B6B8D4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04D5-D6CA-4208-921F-7488FC91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D407-6894-4D5B-81BE-96564BE7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8D18-397D-46B6-9FEF-8B8ACF75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8B58-D682-4A3B-8B9F-6A93725F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2FDC-D27F-4F04-AE67-83F024F3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30EA1-2F92-4405-AC46-28A9FB3A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7C0D-6AD0-4158-AD78-99FE9E4A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F25-0418-46C0-96D0-3A09BAD0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7868-0150-4C8C-8183-A9BD538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4E9-6E69-4922-B069-FDF1D629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4F07-D004-4713-B2E5-56AC5008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EE98D-9652-4A67-AA2E-E2103499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2FA-F835-49D7-AFB4-43348621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77D1-244A-4A4C-A0C5-1F6B947B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255E-099B-4D02-A2F8-1434673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CE4-FCE7-486E-8E69-56713D1B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6258-6852-4133-A0C3-EF96369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3125-8048-492D-8485-FFD0907B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B754-B929-4C6B-A000-B81CBC5A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E09-DE7D-487B-803C-18DC45A34EB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3C9E-C7F0-45C6-AB71-39D0C45D27F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Black"/>
              </a:rPr>
              <a:t>Linear Algebra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Unit Portfolio Present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Stephanie Zub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tudents will learn to identify linear equations, write them in slope intercept form, and graph them using a variety of methods.  In addition, they will use linear graphing to model real world problem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urriculum-Fram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Essential Question</a:t>
            </a:r>
            <a:r>
              <a:rPr b="1" lang="en-US" sz="20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can math reveal?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Unit Questions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 linear mathematical models reveal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nterpret and make predictions based on linear model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Content Questions</a:t>
            </a:r>
            <a:br>
              <a:rPr sz="2000"/>
            </a:b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dentify a linear equation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identify the slope and y intercept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es the slope tell u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What does the y-intercept tell u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do you graph a linear equation… using a table? using slope intercept form? using a graphing calculator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ow can we use linear equations to model real world situtations?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inear Algebr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 Black"/>
              </a:rPr>
              <a:t>st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century skills by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1371600" y="3505320"/>
            <a:ext cx="72388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aborating with peer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ing data about linear models and drawing conclusions to answer Unit Question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problems and making decisions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ng with others in a wiki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231840" indent="-231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auging Student Needs Assessmen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"/>
          <p:cNvSpPr/>
          <p:nvPr/>
        </p:nvSpPr>
        <p:spPr>
          <a:xfrm>
            <a:off x="380880" y="1371600"/>
            <a:ext cx="777240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Purpose of the Assessments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To gather information about what prior knowledge my students have regarding linear algebra and to measure what information they have gained from the units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How I have tried to promote higher-order thinking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I ask students to find relationships and draw conclusions regarding linear algebra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How the assessment information helps me and my students plan for upcoming activities in the uni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Assessments will enable me to move from one activity to the next knowing that my students have mastered the previous material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  <a:ea typeface="Arial"/>
              </a:rPr>
              <a:t>What feedback or additional ideas I’d lik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  <a:ea typeface="Arial"/>
              </a:rPr>
              <a:t>How do I move through unit plan in a timely fashion while preparing for the regents exam.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nd ways to get my students more interested in mathematic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earn about different kinds of technology my students and I can 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o encourage my students to become independent learner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hare ideas with other teach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304920" y="228600"/>
            <a:ext cx="6992640" cy="116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My Goals for the Cours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quest for Feedb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went right and what went wro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deas for helping students take more responsibility for their own learning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Eldred Central School</cp:lastModifiedBy>
  <dcterms:modified xsi:type="dcterms:W3CDTF">2010-07-02T12:32:19Z</dcterms:modified>
  <cp:revision>19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